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BE7B-0B45-411E-A540-B56A6C45B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C83D-75EE-425A-8A16-0E678DF40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E1BF-9C93-47E9-ADB4-A500359BF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608B-CF11-4E87-BC32-07055EDB9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59A4-7C1E-4AC8-9593-D981296EC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DFD3-98D9-4712-903F-0A4189C96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664C-351B-4349-A553-A271FB81A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0B7D-BB2E-4908-A3AA-9E51B2794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0D26-D447-4DB1-AFB8-69777A95F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5DB9-FB47-44E5-9294-A48B91F7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A1E0-F75E-4758-8229-E1901525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80EE-C036-4272-BAA9-2C493033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684C0-C618-4B0A-AA5B-414422E056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adstar 3.7 Upgrade Project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/14/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A0B3-A3AA-4913-B440-88C041F7822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mmended Approach from CASUP Project (PR-30082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 - Upgrading from 2.25 to 3.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ck Cl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Benefit – Improved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d Goal is 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D79B-E6D6-483A-AF43-0CA941C378B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de Star 3.7 Upgrade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49000" y="44704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19880" y="449568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92560" y="4495680"/>
            <a:ext cx="51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640120" y="44956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19720" y="3124080"/>
            <a:ext cx="2209680" cy="228600"/>
          </a:xfrm>
          <a:prstGeom prst="flowChartProcess">
            <a:avLst/>
          </a:prstGeom>
          <a:solidFill>
            <a:srgbClr val="59b4bb"/>
          </a:solidFill>
          <a:ln w="0">
            <a:noFill/>
          </a:ln>
          <a:effectLst>
            <a:outerShdw dist="17819" dir="2700000" blurRad="0" rotWithShape="0">
              <a:srgbClr val="356b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un iTest Scrip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629400" y="3962520"/>
            <a:ext cx="1295280" cy="685800"/>
          </a:xfrm>
          <a:prstGeom prst="rightArrow">
            <a:avLst>
              <a:gd name="adj1" fmla="val 36602"/>
              <a:gd name="adj2" fmla="val 7765"/>
            </a:avLst>
          </a:prstGeom>
          <a:gradFill rotWithShape="0">
            <a:gsLst>
              <a:gs pos="0">
                <a:srgbClr val="fe3c00"/>
              </a:gs>
              <a:gs pos="100000">
                <a:srgbClr val="751b00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972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28800" y="2286000"/>
            <a:ext cx="2590920" cy="228600"/>
          </a:xfrm>
          <a:prstGeom prst="flowChartProcess">
            <a:avLst/>
          </a:prstGeom>
          <a:solidFill>
            <a:srgbClr val="d0eaec"/>
          </a:solidFill>
          <a:ln w="0">
            <a:noFill/>
          </a:ln>
          <a:effectLst>
            <a:outerShdw dist="17819" dir="2700000" blurRad="0" rotWithShape="0">
              <a:srgbClr val="7c8b8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un pTest Scrip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162920" y="3657600"/>
            <a:ext cx="685800" cy="228600"/>
          </a:xfrm>
          <a:prstGeom prst="flowChartProcess">
            <a:avLst/>
          </a:prstGeom>
          <a:solidFill>
            <a:srgbClr val="de3500"/>
          </a:solidFill>
          <a:ln w="0">
            <a:noFill/>
          </a:ln>
          <a:effectLst>
            <a:outerShdw dist="17819" dir="2700000" blurRad="0" rotWithShape="0">
              <a:srgbClr val="841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o L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28800" y="2514600"/>
            <a:ext cx="0" cy="16765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821320" y="3962520"/>
            <a:ext cx="60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v ‘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162920" y="3886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886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259400" y="3962520"/>
            <a:ext cx="587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n ‘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964120" y="3946680"/>
            <a:ext cx="587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n ‘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629400" y="3352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419720" y="2514600"/>
            <a:ext cx="0" cy="16765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19320" y="4191120"/>
            <a:ext cx="5410080" cy="228600"/>
          </a:xfrm>
          <a:prstGeom prst="rect">
            <a:avLst/>
          </a:prstGeom>
          <a:gradFill rotWithShape="0">
            <a:gsLst>
              <a:gs pos="0">
                <a:srgbClr val="52656c"/>
              </a:gs>
              <a:gs pos="100000">
                <a:srgbClr val="b3dceb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00600" y="5181480"/>
            <a:ext cx="3048120" cy="228600"/>
          </a:xfrm>
          <a:prstGeom prst="flowChartProcess">
            <a:avLst/>
          </a:prstGeom>
          <a:gradFill rotWithShape="0">
            <a:gsLst>
              <a:gs pos="0">
                <a:srgbClr val="172f75"/>
              </a:gs>
              <a:gs pos="100000">
                <a:srgbClr val="3366ff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1e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de Freez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00600" y="44197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848720" y="44197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315920" y="44956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F8FC-A838-472B-9A41-816E22FB265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 - Lodestar 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grade to Lodestar 4.0 – CY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chitecture Change – Browser-ba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User Interface and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tional Performance Improv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6471-6059-4460-B71A-1CE06CE6CE9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wariner</dc:creator>
  <dc:description/>
  <dc:language>en-US</dc:language>
  <cp:lastModifiedBy>kbergman</cp:lastModifiedBy>
  <cp:lastPrinted>2002-09-24T18:27:58Z</cp:lastPrinted>
  <dcterms:modified xsi:type="dcterms:W3CDTF">2004-10-07T15:23:54Z</dcterms:modified>
  <cp:revision>288</cp:revision>
  <dc:subject>RMS</dc:subject>
  <dc:title>ERCOT RMS Update 10-16-03</dc:title>
</cp:coreProperties>
</file>